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AE522-0CF9-4BAA-9426-E24A0D7485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57E35-EEA3-41F9-ACE9-B2E21D5CF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476BF-98B5-4973-AE18-6791FCF77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65A96-6AC1-4F5F-92E2-F6F171E4E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BC3C0-7650-468E-9D5D-7B8FBC74A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44F68-AF20-45F6-AEB3-DCAC28D60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9F26C-D064-46CA-A43A-B0BF05430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0538C-0027-4961-A0E7-7CDBFD15C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EBBDA-36D7-4E27-B02B-665DB54B5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F306A-3815-4B42-B5F0-2C29E2E8C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F9674-7722-4E32-B228-4817DC5EE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BBB02-3CA3-403C-BEBC-140934B5C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7802D-61FB-4206-9243-7E308BC56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D72-658A-46A0-BE8E-C1E97997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1A9-ECE3-4DBF-A106-1B5443D7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8AF7-0098-4F1E-AF25-F3D04A7A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B49-063D-42F2-8066-2F794153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9C7-D3BA-4C27-8312-12D1186A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5D1-7407-4651-A8FD-A5B30FC0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148-CBDB-4130-982D-FFADCBA2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784-746C-47FD-BA68-AE4F8DD2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2CB-1C82-408E-8803-C7933630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D769-EB13-403F-A989-90D67E73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E4E-C65A-4C79-BCD4-6BCE1F7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7EB-5900-45BC-8D2A-9BC7F47F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BD64C-BFEE-4713-BEEC-45530EA27F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BC86F-812C-40E3-8073-C8C3B6934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dschilder@eval-in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Local Evaluation Overview and Preliminary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Diane Schilder, E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Offer online workshop simultaneously with content cours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rovide hands on workshop for teachers learning Web 2.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rovide teachers opportunities to share ideas about hands 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2952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Continue to observe sample of classro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Analyze data and submit reports to the Department of Elementary and Secondary Edu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rovide formative feedback to project leaders to inform improvements in subsequent cour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4"/>
          <p:cNvSpPr/>
          <p:nvPr/>
        </p:nvSpPr>
        <p:spPr>
          <a:xfrm>
            <a:off x="12952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294920"/>
            <a:ext cx="857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Contact m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childer@eval-inc.com</a:t>
            </a:r>
            <a:r>
              <a:rPr b="0" lang="en-US" sz="2000" spc="-1" strike="noStrike" u="sng">
                <a:solidFill>
                  <a:srgbClr val="030303"/>
                </a:solidFill>
                <a:uFillTx/>
                <a:latin typeface="Calibri"/>
              </a:rPr>
              <a:t> or 617-816-2026 to schedule obser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Send me an example lesson plan PRIOR to your participation so I can compare with lesson you developed for the cour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Share student assessment data with me by sending summary by email or sending to me 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30303"/>
                </a:solidFill>
                <a:latin typeface="Calibri"/>
              </a:rPr>
              <a:t>Diane Schil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30303"/>
                </a:solidFill>
                <a:latin typeface="Calibri"/>
              </a:rPr>
              <a:t>EAS, In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30303"/>
                </a:solidFill>
                <a:latin typeface="Calibri"/>
              </a:rPr>
              <a:t>1 Mifflin Place, Suite 4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30303"/>
                </a:solidFill>
                <a:latin typeface="Calibri"/>
              </a:rPr>
              <a:t>Cambridge, MA 021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Notify the TLCD’s of the date and time you will be implementing your less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urpose of the evalu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Document impact of project on teachers and stud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Calibri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30303"/>
                </a:solidFill>
                <a:latin typeface="Calibri"/>
              </a:rPr>
              <a:t>Note: Evaluation is focused on the project and not individual teachers or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Collect and report data about project activities so leaders can improv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Report findings to State Department of Elementary and Secondary Education, TRITEC and participating distri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2952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30303"/>
                </a:solidFill>
                <a:latin typeface="Calibri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articipate in regular project-related meetings and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Survey participating and comparison teach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Assessments of teacher content knowledge and pedagogical approaches (pre and p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Observations of a sample of teachers’ classrooms and of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Assessments of students in classrooms of participating and comparison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2952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fidence Using Technology for Teaching and Learning Increas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12840" y="1608120"/>
            <a:ext cx="83739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1066680" y="2048040"/>
            <a:ext cx="65469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fidence Using Technology for Teaching and Learning Increas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4"/>
          <p:cNvSpPr/>
          <p:nvPr/>
        </p:nvSpPr>
        <p:spPr>
          <a:xfrm>
            <a:off x="730080" y="141768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hart 6" descr=""/>
          <p:cNvPicPr/>
          <p:nvPr/>
        </p:nvPicPr>
        <p:blipFill>
          <a:blip r:embed="rId1"/>
          <a:stretch/>
        </p:blipFill>
        <p:spPr>
          <a:xfrm>
            <a:off x="725400" y="1768320"/>
            <a:ext cx="75106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dagogical Techniques Chang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30120" y="1143000"/>
            <a:ext cx="78994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hart 4" descr=""/>
          <p:cNvPicPr/>
          <p:nvPr/>
        </p:nvPicPr>
        <p:blipFill>
          <a:blip r:embed="rId1"/>
          <a:stretch/>
        </p:blipFill>
        <p:spPr>
          <a:xfrm>
            <a:off x="603360" y="2054160"/>
            <a:ext cx="76327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 Knowledge Increa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4"/>
          <p:cNvSpPr/>
          <p:nvPr/>
        </p:nvSpPr>
        <p:spPr>
          <a:xfrm>
            <a:off x="57780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hart 5" descr=""/>
          <p:cNvPicPr/>
          <p:nvPr/>
        </p:nvPicPr>
        <p:blipFill>
          <a:blip r:embed="rId1"/>
          <a:stretch/>
        </p:blipFill>
        <p:spPr>
          <a:xfrm>
            <a:off x="2279520" y="2054160"/>
            <a:ext cx="4584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itive Impact Repo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"/>
          <p:cNvSpPr/>
          <p:nvPr/>
        </p:nvSpPr>
        <p:spPr>
          <a:xfrm>
            <a:off x="57780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hart 5" descr=""/>
          <p:cNvPicPr/>
          <p:nvPr/>
        </p:nvPicPr>
        <p:blipFill>
          <a:blip r:embed="rId1"/>
          <a:stretch/>
        </p:blipFill>
        <p:spPr>
          <a:xfrm>
            <a:off x="1238400" y="1414440"/>
            <a:ext cx="62481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itive Impact Repo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294920"/>
            <a:ext cx="844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Increase in biology content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30303"/>
                </a:solidFill>
                <a:latin typeface="Verdana"/>
                <a:ea typeface="Verdana"/>
              </a:rPr>
              <a:t>I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ved learning about cells and genetics at a deeper le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 was challenged to learn the latest in the field of biolog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Increase in knowledge of Web 2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 gained the ability to use technology in a way that I am comfortable and confid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From the class I now have a greater understanding of how to develop a website and wiki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 liked seeing the different Web 2.0 tools that are available to use in the classroom. My favorites were the Quizlet and Zoho Challenge sites that I learned abou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Improvements in teaching students biology content using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 loved learning about cells and genetics at a deeper level, but I also loved learning about how to become a better science teacher through the use of technology.  The on-line workshops were time consuming, but I learned a lot from them.  I know my students would do the same and it provides a great way to differentiate the learning because students can learn using different strategies and at their own pa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9840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6:32:35Z</dcterms:created>
  <dc:creator>Diane Schilder</dc:creator>
  <dc:description/>
  <dc:language>en-US</dc:language>
  <cp:lastModifiedBy>Robert Simpson</cp:lastModifiedBy>
  <cp:lastPrinted>2011-09-26T18:28:51Z</cp:lastPrinted>
  <dcterms:modified xsi:type="dcterms:W3CDTF">2011-09-26T19:54:28Z</dcterms:modified>
  <cp:revision>20</cp:revision>
  <dc:subject/>
  <dc:title>Local Evaluation Overview</dc:title>
</cp:coreProperties>
</file>